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043000" y="4148280"/>
            <a:ext cx="5124960" cy="1487880"/>
          </a:xfrm>
          <a:custGeom>
            <a:avLst/>
            <a:gdLst/>
            <a:ahLst/>
            <a:rect l="0" t="0" r="r" b="b"/>
            <a:pathLst>
              <a:path w="14236" h="4133">
                <a:moveTo>
                  <a:pt x="0" y="4133"/>
                </a:moveTo>
                <a:lnTo>
                  <a:pt x="14236" y="4133"/>
                </a:lnTo>
                <a:lnTo>
                  <a:pt x="7118" y="0"/>
                </a:lnTo>
                <a:lnTo>
                  <a:pt x="0" y="4133"/>
                </a:lnTo>
                <a:close/>
              </a:path>
            </a:pathLst>
          </a:custGeom>
          <a:gradFill rotWithShape="0">
            <a:gsLst>
              <a:gs pos="0">
                <a:srgbClr val="a9a3ff"/>
              </a:gs>
              <a:gs pos="100000">
                <a:srgbClr val="1100b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44080" y="1212840"/>
            <a:ext cx="2570040" cy="4439520"/>
          </a:xfrm>
          <a:custGeom>
            <a:avLst/>
            <a:gdLst/>
            <a:ahLst/>
            <a:rect l="0" t="0" r="r" b="b"/>
            <a:pathLst>
              <a:path w="7139" h="12332">
                <a:moveTo>
                  <a:pt x="7120" y="0"/>
                </a:moveTo>
                <a:lnTo>
                  <a:pt x="0" y="12332"/>
                </a:lnTo>
                <a:lnTo>
                  <a:pt x="7139" y="8232"/>
                </a:lnTo>
                <a:lnTo>
                  <a:pt x="7120" y="0"/>
                </a:lnTo>
                <a:close/>
              </a:path>
            </a:pathLst>
          </a:custGeom>
          <a:gradFill rotWithShape="0">
            <a:gsLst>
              <a:gs pos="0">
                <a:srgbClr val="afebaf"/>
              </a:gs>
              <a:gs pos="50000">
                <a:srgbClr val="004800"/>
              </a:gs>
              <a:gs pos="100000">
                <a:srgbClr val="afeba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93960" y="1213920"/>
            <a:ext cx="2571120" cy="4438440"/>
          </a:xfrm>
          <a:custGeom>
            <a:avLst/>
            <a:gdLst/>
            <a:ahLst/>
            <a:rect l="0" t="0" r="r" b="b"/>
            <a:pathLst>
              <a:path w="7142" h="12329">
                <a:moveTo>
                  <a:pt x="7142" y="12329"/>
                </a:moveTo>
                <a:lnTo>
                  <a:pt x="23" y="0"/>
                </a:lnTo>
                <a:lnTo>
                  <a:pt x="0" y="8232"/>
                </a:lnTo>
                <a:lnTo>
                  <a:pt x="7142" y="12329"/>
                </a:lnTo>
                <a:close/>
              </a:path>
            </a:pathLst>
          </a:custGeom>
          <a:gradFill rotWithShape="0">
            <a:gsLst>
              <a:gs pos="0">
                <a:srgbClr val="ffa2a0"/>
              </a:gs>
              <a:gs pos="50000">
                <a:srgbClr val="bf0000"/>
              </a:gs>
              <a:gs pos="100000">
                <a:srgbClr val="ffa2a0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23920" y="2770200"/>
            <a:ext cx="347976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ÖKOLOG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61040" y="2867040"/>
            <a:ext cx="37638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ÖKONOM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86120" y="5716440"/>
            <a:ext cx="343368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Z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71520" y="295200"/>
            <a:ext cx="83930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0000"/>
                </a:solidFill>
                <a:latin typeface="Comic Sans MS"/>
                <a:ea typeface="Comic Sans MS"/>
              </a:rPr>
              <a:t>Lokale Agenda 21 in Böhmf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7080" y="6099120"/>
            <a:ext cx="1019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.03.98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st./ 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8deb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4600" y="212760"/>
            <a:ext cx="8796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8600"/>
                </a:solidFill>
                <a:latin typeface="Comic Sans MS"/>
                <a:ea typeface="Comic Sans MS"/>
              </a:rPr>
              <a:t>Entbuschung eines Trockenrasen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52800" y="2023920"/>
            <a:ext cx="3038400" cy="2276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486400" y="1405080"/>
            <a:ext cx="3038400" cy="2276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022400" y="1036800"/>
            <a:ext cx="2276640" cy="3038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671480" y="4537080"/>
            <a:ext cx="5800680" cy="2085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70000" y="87156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12920" y="192240"/>
            <a:ext cx="8319960" cy="10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1fff"/>
                </a:solidFill>
                <a:latin typeface="Comic Sans MS"/>
                <a:ea typeface="Comic Sans MS"/>
              </a:rPr>
              <a:t>DIE SCHWER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6960" y="19573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65400" y="35640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67520" y="49687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3440" y="4991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31436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88120" y="1751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36960" y="5419800"/>
            <a:ext cx="1736640" cy="125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78680" y="33638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11760" y="3313080"/>
            <a:ext cx="1965240" cy="1319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00600" y="3564000"/>
            <a:ext cx="19875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lungs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 Lok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47720" y="2268360"/>
            <a:ext cx="1652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130880" y="3514680"/>
            <a:ext cx="165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rf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d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70080" y="5578560"/>
            <a:ext cx="165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asser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was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525456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0560" y="5207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1480" y="54403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31120" y="15462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449440" y="2576520"/>
            <a:ext cx="1120680" cy="7873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26360" y="3946680"/>
            <a:ext cx="652320" cy="99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36880" y="4967280"/>
            <a:ext cx="233640" cy="501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36840" y="2725560"/>
            <a:ext cx="3157560" cy="2492280"/>
          </a:xfrm>
          <a:prstGeom prst="ellipse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00" y="115560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38240" y="5349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460440"/>
            <a:ext cx="7238880" cy="7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RBEITSKREIS WASSER &amp; ABWAS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716960" y="15732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345960" y="2600280"/>
            <a:ext cx="4043520" cy="358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 Regenwassernutzu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förder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enwassernutzu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Grundschule und Turnhal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serdurchlässig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Befestigun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serschutzgebiet erweiter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denuntersuchungen im WS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uchtbiotop anl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00" y="133812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38600" y="2541600"/>
            <a:ext cx="4410000" cy="51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äschepflege mit know h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mie im Haushal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mfrage: “Was wissen wir üb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unser Wasser?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ps “Trinkwasser sparen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e alt ist unser Wasser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trat-Ursachen und Wirkung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e können wir un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Trinkwasser besser schütze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g der offenen Tür i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Wasserh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5960" y="1608120"/>
            <a:ext cx="4041720" cy="685800"/>
            <a:chOff x="345960" y="1608120"/>
            <a:chExt cx="4041720" cy="685800"/>
          </a:xfrm>
        </p:grpSpPr>
        <p:sp>
          <p:nvSpPr>
            <p:cNvPr id="176" name=""/>
            <p:cNvSpPr/>
            <p:nvPr/>
          </p:nvSpPr>
          <p:spPr>
            <a:xfrm>
              <a:off x="345960" y="1608120"/>
              <a:ext cx="40417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530280" y="1695600"/>
              <a:ext cx="36162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 LA 21 erledig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707000" y="1608120"/>
            <a:ext cx="4041720" cy="685800"/>
            <a:chOff x="4707000" y="1608120"/>
            <a:chExt cx="4041720" cy="685800"/>
          </a:xfrm>
        </p:grpSpPr>
        <p:sp>
          <p:nvSpPr>
            <p:cNvPr id="179" name=""/>
            <p:cNvSpPr/>
            <p:nvPr/>
          </p:nvSpPr>
          <p:spPr>
            <a:xfrm>
              <a:off x="4707000" y="1608120"/>
              <a:ext cx="4041720" cy="685800"/>
            </a:xfrm>
            <a:prstGeom prst="rect">
              <a:avLst/>
            </a:prstGeom>
            <a:solidFill>
              <a:srgbClr val="7979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294160" y="1700280"/>
              <a:ext cx="26463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 gepl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19280" y="2948040"/>
            <a:ext cx="40687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dwirtschaft und Wasser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wirtschaft - ein unversöhn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licher Gegensatz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g der offenen Tür in 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Kläranl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38240" y="5349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460440"/>
            <a:ext cx="7238880" cy="7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RBEITSKREIS WASSER &amp; ABWAS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716960" y="15732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70000" y="133812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35120" y="1811160"/>
            <a:ext cx="4103640" cy="685800"/>
            <a:chOff x="2535120" y="1811160"/>
            <a:chExt cx="4103640" cy="685800"/>
          </a:xfrm>
        </p:grpSpPr>
        <p:sp>
          <p:nvSpPr>
            <p:cNvPr id="187" name=""/>
            <p:cNvSpPr/>
            <p:nvPr/>
          </p:nvSpPr>
          <p:spPr>
            <a:xfrm>
              <a:off x="2535120" y="1811160"/>
              <a:ext cx="4041720" cy="685800"/>
            </a:xfrm>
            <a:prstGeom prst="rect">
              <a:avLst/>
            </a:prstGeom>
            <a:solidFill>
              <a:srgbClr val="ff6f8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541600" y="1911240"/>
              <a:ext cx="40971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ch 1998 beabsichtig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12920" y="192240"/>
            <a:ext cx="8319960" cy="10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1fff"/>
                </a:solidFill>
                <a:latin typeface="Comic Sans MS"/>
                <a:ea typeface="Comic Sans MS"/>
              </a:rPr>
              <a:t>DIE SCHWER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6960" y="1957320"/>
            <a:ext cx="1736640" cy="12542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65400" y="35640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67520" y="49687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3440" y="4991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131436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88120" y="1751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6960" y="54198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78680" y="33638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11760" y="3313080"/>
            <a:ext cx="1965240" cy="1319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00600" y="3564000"/>
            <a:ext cx="19875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lungs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 Lok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47720" y="2268360"/>
            <a:ext cx="1652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130880" y="3514680"/>
            <a:ext cx="165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rf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d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70080" y="5578560"/>
            <a:ext cx="165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asser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was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6560" y="525456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0560" y="5207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1480" y="54403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31120" y="15462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449440" y="2576520"/>
            <a:ext cx="1120680" cy="7873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26360" y="3946680"/>
            <a:ext cx="652320" cy="99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836880" y="4967280"/>
            <a:ext cx="233640" cy="501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6840" y="2725560"/>
            <a:ext cx="3157560" cy="2492280"/>
          </a:xfrm>
          <a:prstGeom prst="ellipse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00" y="115560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55600" y="426960"/>
            <a:ext cx="8275680" cy="8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  <a:ea typeface="Comic Sans MS"/>
              </a:rPr>
              <a:t>ARBEITSKREIS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946920" y="117360"/>
            <a:ext cx="1600200" cy="1395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0000" y="133992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77920" y="2678040"/>
            <a:ext cx="40435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mverbrauch Straßen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beleuchtung senk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nnenkollektoren Turnhal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senfreies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05480" y="2678040"/>
            <a:ext cx="441000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ktion “Laufen lohnt sich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leih von Energiemeßgerät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iesparen im Haushal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omsparlamp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chtig heizen und lüft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sstellung “Sonnenenergi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in Böhmfeld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tblat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“Meine Agenda 21 Energie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12840" y="1608120"/>
            <a:ext cx="4041720" cy="685800"/>
            <a:chOff x="312840" y="1608120"/>
            <a:chExt cx="4041720" cy="685800"/>
          </a:xfrm>
        </p:grpSpPr>
        <p:sp>
          <p:nvSpPr>
            <p:cNvPr id="218" name=""/>
            <p:cNvSpPr/>
            <p:nvPr/>
          </p:nvSpPr>
          <p:spPr>
            <a:xfrm>
              <a:off x="312840" y="1608120"/>
              <a:ext cx="40417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496800" y="1695600"/>
              <a:ext cx="36162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 LA 21 erledig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07000" y="1608120"/>
            <a:ext cx="4041720" cy="685800"/>
            <a:chOff x="4707000" y="1608120"/>
            <a:chExt cx="4041720" cy="685800"/>
          </a:xfrm>
        </p:grpSpPr>
        <p:sp>
          <p:nvSpPr>
            <p:cNvPr id="221" name=""/>
            <p:cNvSpPr/>
            <p:nvPr/>
          </p:nvSpPr>
          <p:spPr>
            <a:xfrm>
              <a:off x="4707000" y="1608120"/>
              <a:ext cx="4041720" cy="685800"/>
            </a:xfrm>
            <a:prstGeom prst="rect">
              <a:avLst/>
            </a:prstGeom>
            <a:solidFill>
              <a:srgbClr val="7979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5294160" y="1700280"/>
              <a:ext cx="26463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 gepl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21080" y="3220920"/>
            <a:ext cx="40687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tfahrbör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ieverbrauch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öffentlichen Einrichtung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omsparwettbewer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“Ein Dorf spart Energi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5600" y="426960"/>
            <a:ext cx="8275680" cy="8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  <a:ea typeface="Comic Sans MS"/>
              </a:rPr>
              <a:t>ARBEITSKREIS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946920" y="117360"/>
            <a:ext cx="1600200" cy="1395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70000" y="133992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36920" y="1947960"/>
            <a:ext cx="4103280" cy="685800"/>
            <a:chOff x="2536920" y="1947960"/>
            <a:chExt cx="4103280" cy="685800"/>
          </a:xfrm>
        </p:grpSpPr>
        <p:sp>
          <p:nvSpPr>
            <p:cNvPr id="228" name=""/>
            <p:cNvSpPr/>
            <p:nvPr/>
          </p:nvSpPr>
          <p:spPr>
            <a:xfrm>
              <a:off x="2536920" y="1947960"/>
              <a:ext cx="4041720" cy="685800"/>
            </a:xfrm>
            <a:prstGeom prst="rect">
              <a:avLst/>
            </a:prstGeom>
            <a:solidFill>
              <a:srgbClr val="ff6f8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2543040" y="2048040"/>
              <a:ext cx="40971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ch 1998 beabsichtig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54200" y="1446120"/>
            <a:ext cx="76359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s bringt uns die Lokale Agenda 2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9400" y="2065320"/>
            <a:ext cx="821844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kussionen anr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essenkonflikte verbalisieren und reg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abungen und Fähigkeiten im Dor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entdecken und för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stätigung f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tverantwortung überne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bensqualität im Dorf erhö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elleicht ein paar Arbeitsplätze im Dorf 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um- und Freizeitverhalten än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tewandel einl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2200" y="360360"/>
            <a:ext cx="8408880" cy="10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1fff"/>
                </a:solidFill>
                <a:latin typeface="Comic Sans MS"/>
                <a:ea typeface="Comic Sans MS"/>
              </a:rPr>
              <a:t>DER NUT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000" y="140796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00000" y="1909800"/>
            <a:ext cx="734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 wir noch tiefer ansetzen müss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235160" y="2828880"/>
            <a:ext cx="667548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tarbeit der Landwirtschaft verstärk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tarbeit der Pfarrgemeinde anreiz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werbebetriebe integrier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itbild erarb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2200" y="360360"/>
            <a:ext cx="8408880" cy="10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1fff"/>
                </a:solidFill>
                <a:latin typeface="Comic Sans MS"/>
                <a:ea typeface="Comic Sans MS"/>
              </a:rPr>
              <a:t>DIE DEFIZ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00" y="145584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7360" y="279360"/>
            <a:ext cx="87184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1f1fff"/>
                </a:solidFill>
                <a:latin typeface="Comic Sans MS"/>
                <a:ea typeface="Comic Sans MS"/>
              </a:rPr>
              <a:t>Dorfseminar in der Abtei Plankste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33600" y="4264200"/>
            <a:ext cx="3038400" cy="2276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514520" y="1057320"/>
            <a:ext cx="2276640" cy="3038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591080" y="1057320"/>
            <a:ext cx="3038400" cy="2276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5340240" y="3500280"/>
            <a:ext cx="2276640" cy="3038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70000" y="82224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2041560"/>
            <a:ext cx="290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8036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4440" y="279360"/>
            <a:ext cx="8655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1fff"/>
                </a:solidFill>
                <a:latin typeface="Comic Sans MS"/>
                <a:ea typeface="Comic Sans MS"/>
              </a:rPr>
              <a:t>EIN ÜBERB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40160" y="3846600"/>
            <a:ext cx="4062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ökonomisch tragfähi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ökologisch verantwortl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zial verträglich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8160" y="5280120"/>
            <a:ext cx="5462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ngfristige Sicherung + Verbess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 natürlichen Lebensgrund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49640" y="389880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49640" y="428004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49640" y="4660920"/>
            <a:ext cx="343080" cy="33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54080" y="1736640"/>
            <a:ext cx="8837640" cy="18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d0000"/>
                </a:solidFill>
                <a:latin typeface="Comic Sans MS"/>
                <a:ea typeface="Comic Sans MS"/>
              </a:rPr>
              <a:t>Das Ziel: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NACHHALTIGE ENTWICKLUNG UNSERER GEME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00" y="135576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ae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672000" y="4432320"/>
            <a:ext cx="1790640" cy="177336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595520" y="785880"/>
            <a:ext cx="5914800" cy="2490840"/>
            <a:chOff x="1595520" y="785880"/>
            <a:chExt cx="5914800" cy="2490840"/>
          </a:xfrm>
        </p:grpSpPr>
        <p:sp>
          <p:nvSpPr>
            <p:cNvPr id="248" name=""/>
            <p:cNvSpPr txBox="1"/>
            <p:nvPr/>
          </p:nvSpPr>
          <p:spPr>
            <a:xfrm>
              <a:off x="1595520" y="785880"/>
              <a:ext cx="4243320" cy="249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200" spc="-1" strike="noStrike">
                  <a:solidFill>
                    <a:srgbClr val="ff0066"/>
                  </a:solidFill>
                  <a:latin typeface="Comic Sans MS"/>
                  <a:ea typeface="Comic Sans MS"/>
                </a:rPr>
                <a:t>Böhmfeld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5394240" y="1079640"/>
              <a:ext cx="211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4000" spc="-1" strike="noStrike">
                  <a:solidFill>
                    <a:srgbClr val="0009fd"/>
                  </a:solidFill>
                  <a:latin typeface="Terminator Two"/>
                  <a:ea typeface="Terminator Two"/>
                </a:rPr>
                <a:t>onlin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2290680" y="2448000"/>
            <a:ext cx="4554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 hier tut sich wa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5920" y="3346560"/>
            <a:ext cx="836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9fd"/>
                </a:solidFill>
                <a:uFillTx/>
                <a:latin typeface="Arial"/>
                <a:ea typeface="Arial"/>
              </a:rPr>
              <a:t>http://www.altmuehlnet.baynet.de/gemeinden/boehmf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5335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e Böhmfelder Lokale Agenda 21 im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90920" y="1436760"/>
            <a:ext cx="60800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enwirkung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Info für Bürger im Dorf</a:t>
            </a:r>
            <a:br>
              <a:rPr sz="24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Nutzen des Mediums Internet aufzeig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ßenwirkung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Beitrag zur Bekanntmachung der LA 21</a:t>
            </a:r>
            <a:br>
              <a:rPr sz="24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Anreiz für andere Gemeinden z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Mitmachen </a:t>
            </a:r>
            <a:br>
              <a:rPr sz="24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PR für eigene Geme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2041560"/>
            <a:ext cx="290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28036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57040" y="2892600"/>
            <a:ext cx="2090880" cy="1376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709560" y="266760"/>
            <a:ext cx="13143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0880" y="5335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ormationsverteilung über das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0" y="1557360"/>
            <a:ext cx="6168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Berichterstattu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sweitergabe ohne Zens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bendige Gestaltung mit Bildern mögl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en sind über “Suchmaschinen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gut auffindb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esiges Verbreitungsgeb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2041560"/>
            <a:ext cx="290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28036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76360" y="2695680"/>
            <a:ext cx="1285920" cy="1114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09560" y="266760"/>
            <a:ext cx="13143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0880" y="5335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ormationssammlung über das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362320" y="1739880"/>
            <a:ext cx="52704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Information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hrschichtige Angeb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quem von zu Hause a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ltweite Suchmöglichkeit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fache Weiterverarbeitung im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041560"/>
            <a:ext cx="290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8036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95440" y="26575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09560" y="266760"/>
            <a:ext cx="13143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0880" y="5335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ürgernetzvereine als Internet -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8120" y="1739880"/>
            <a:ext cx="52372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ünstiger Internet-Zuga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lfen bei der Webseitengestaltu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ntakt zu Gleichgesinn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fahrungsaustaus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d0000"/>
              </a:buClr>
              <a:buSzPct val="80000"/>
              <a:buFont typeface="Marlett"/>
              <a:buChar char="g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-Keimzellen im 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2041560"/>
            <a:ext cx="290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28036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71680" y="2543040"/>
            <a:ext cx="1790640" cy="1773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09560" y="266760"/>
            <a:ext cx="13143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ae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672000" y="4432320"/>
            <a:ext cx="1790640" cy="177336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1595520" y="785880"/>
            <a:ext cx="5914800" cy="2490840"/>
            <a:chOff x="1595520" y="785880"/>
            <a:chExt cx="5914800" cy="2490840"/>
          </a:xfrm>
        </p:grpSpPr>
        <p:sp>
          <p:nvSpPr>
            <p:cNvPr id="291" name=""/>
            <p:cNvSpPr txBox="1"/>
            <p:nvPr/>
          </p:nvSpPr>
          <p:spPr>
            <a:xfrm>
              <a:off x="1595520" y="785880"/>
              <a:ext cx="4243320" cy="249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200" spc="-1" strike="noStrike">
                  <a:solidFill>
                    <a:srgbClr val="ff0066"/>
                  </a:solidFill>
                  <a:latin typeface="Comic Sans MS"/>
                  <a:ea typeface="Comic Sans MS"/>
                </a:rPr>
                <a:t>Böhmfeld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394240" y="1079640"/>
              <a:ext cx="211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4000" spc="-1" strike="noStrike">
                  <a:solidFill>
                    <a:srgbClr val="0009fd"/>
                  </a:solidFill>
                  <a:latin typeface="Terminator Two"/>
                  <a:ea typeface="Terminator Two"/>
                </a:rPr>
                <a:t>onlin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 txBox="1"/>
          <p:nvPr/>
        </p:nvSpPr>
        <p:spPr>
          <a:xfrm>
            <a:off x="2290680" y="2448000"/>
            <a:ext cx="4554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 hier tut sich wa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5920" y="3346560"/>
            <a:ext cx="836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9fd"/>
                </a:solidFill>
                <a:uFillTx/>
                <a:latin typeface="Arial"/>
                <a:ea typeface="Arial"/>
              </a:rPr>
              <a:t>http://www.altmuehlnet.baynet.de/gemeinden/boehmf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8520" y="430200"/>
            <a:ext cx="8862840" cy="56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  <a:ea typeface="Comic Sans MS"/>
              </a:rPr>
              <a:t>DER W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15 Schritte bis zur Verabschiedung einer Lokalen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 u="sng">
                <a:solidFill>
                  <a:srgbClr val="1f1fff"/>
                </a:solidFill>
                <a:uFillTx/>
                <a:latin typeface="Arial"/>
                <a:ea typeface="Arial"/>
              </a:rPr>
              <a:t>Prozeß qualifiziert einle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 Prozeß star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 Gemeinderat und Verwaltung informi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 LA in Gemeinderat beschließ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 u="sng">
                <a:solidFill>
                  <a:srgbClr val="1f1fff"/>
                </a:solidFill>
                <a:uFillTx/>
                <a:latin typeface="Arial"/>
                <a:ea typeface="Arial"/>
              </a:rPr>
              <a:t>Verantwortlichen bestim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 Prozeß organisi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 Agenda-Beirat ein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6. Prozeß strukturi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. Arbeitskreise bil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64960" y="200160"/>
            <a:ext cx="8613720" cy="64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 u="sng">
                <a:solidFill>
                  <a:srgbClr val="1f1fff"/>
                </a:solidFill>
                <a:uFillTx/>
                <a:latin typeface="Arial"/>
                <a:ea typeface="Arial"/>
              </a:rPr>
              <a:t>Grundlagen erarbeiten und Bürger beteili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. Bestandsaufnahme vorneh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9. Handlungsschwerpunkte festl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. Ziele und Maßnahmenvorschläge erarbe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1. Bevölkerung umfassend beteili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 u="sng">
                <a:solidFill>
                  <a:srgbClr val="1f1fff"/>
                </a:solidFill>
                <a:uFillTx/>
                <a:latin typeface="Arial"/>
                <a:ea typeface="Arial"/>
              </a:rPr>
              <a:t>LA diskutieren und verabschi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2. Ergebnisse in Agenda-Beirat ber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3. Aktionsprogramm formuli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4. LA im Gemeinderat vorstellen, diskutieren u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beschließ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 u="sng">
                <a:solidFill>
                  <a:srgbClr val="1f1fff"/>
                </a:solidFill>
                <a:uFillTx/>
                <a:latin typeface="Arial"/>
                <a:ea typeface="Arial"/>
              </a:rPr>
              <a:t>LA veröffentli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5. Aktionsprogramm veröffentli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 u="sng">
                <a:solidFill>
                  <a:srgbClr val="1f1fff"/>
                </a:solidFill>
                <a:uFillTx/>
                <a:latin typeface="Arial"/>
                <a:ea typeface="Arial"/>
              </a:rPr>
              <a:t>LA umse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90720" y="131760"/>
            <a:ext cx="5361480" cy="2511720"/>
          </a:xfrm>
          <a:custGeom>
            <a:avLst/>
            <a:gdLst/>
            <a:ahLst/>
            <a:rect l="0" t="0" r="r" b="b"/>
            <a:pathLst>
              <a:path w="14893" h="6977">
                <a:moveTo>
                  <a:pt x="0" y="6977"/>
                </a:moveTo>
                <a:lnTo>
                  <a:pt x="4468" y="0"/>
                </a:lnTo>
                <a:lnTo>
                  <a:pt x="10425" y="0"/>
                </a:lnTo>
                <a:lnTo>
                  <a:pt x="14893" y="6977"/>
                </a:lnTo>
                <a:lnTo>
                  <a:pt x="0" y="6977"/>
                </a:lnTo>
                <a:close/>
              </a:path>
            </a:pathLst>
          </a:custGeom>
          <a:gradFill rotWithShape="0">
            <a:gsLst>
              <a:gs pos="0">
                <a:srgbClr val="ff6f33"/>
              </a:gs>
              <a:gs pos="100000">
                <a:srgbClr val="ffd3a8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2720" y="4130640"/>
            <a:ext cx="5578920" cy="2626200"/>
          </a:xfrm>
          <a:custGeom>
            <a:avLst/>
            <a:gdLst/>
            <a:ahLst/>
            <a:rect l="0" t="0" r="r" b="b"/>
            <a:pathLst>
              <a:path w="15497" h="7295">
                <a:moveTo>
                  <a:pt x="0" y="7295"/>
                </a:moveTo>
                <a:lnTo>
                  <a:pt x="4649" y="0"/>
                </a:lnTo>
                <a:lnTo>
                  <a:pt x="10848" y="0"/>
                </a:lnTo>
                <a:lnTo>
                  <a:pt x="15497" y="7295"/>
                </a:lnTo>
                <a:lnTo>
                  <a:pt x="0" y="7295"/>
                </a:lnTo>
                <a:close/>
              </a:path>
            </a:pathLst>
          </a:custGeom>
          <a:gradFill rotWithShape="0">
            <a:gsLst>
              <a:gs pos="0">
                <a:srgbClr val="7aff7a"/>
              </a:gs>
              <a:gs pos="100000">
                <a:srgbClr val="0099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06800" y="4362480"/>
            <a:ext cx="473076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Agend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bei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3 Arbeitskre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Dorfr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Böhmfelderinnen + Böhm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25360" y="4952880"/>
            <a:ext cx="2733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ENTSCHE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698480" y="4130640"/>
            <a:ext cx="2105280" cy="23590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524560" y="506520"/>
            <a:ext cx="2189160" cy="245736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391000" y="4130640"/>
            <a:ext cx="2114640" cy="2460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511280" y="574560"/>
            <a:ext cx="2089080" cy="2389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67560" y="4983120"/>
            <a:ext cx="1922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36680" y="1306440"/>
            <a:ext cx="27716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VEREIN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70600" y="1398600"/>
            <a:ext cx="2554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KOORDIN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14600" y="149400"/>
            <a:ext cx="41148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Uno-Konferenz von Rio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Charta von Aalborg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Leitfade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Die umweltbewußte Gemeind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Lok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19440" y="2800440"/>
            <a:ext cx="18954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12920" y="192240"/>
            <a:ext cx="8319960" cy="10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1fff"/>
                </a:solidFill>
                <a:latin typeface="Comic Sans MS"/>
                <a:ea typeface="Comic Sans MS"/>
              </a:rPr>
              <a:t>DIE SCHWER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6960" y="1957320"/>
            <a:ext cx="1736640" cy="12542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5400" y="35640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67520" y="49687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3440" y="4991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131436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88120" y="1751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6960" y="5419800"/>
            <a:ext cx="1736640" cy="125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78680" y="3363840"/>
            <a:ext cx="1736640" cy="1254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11760" y="3313080"/>
            <a:ext cx="1965240" cy="1319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00600" y="3564000"/>
            <a:ext cx="19875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lungs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 Lok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47720" y="2268360"/>
            <a:ext cx="1652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30880" y="3514680"/>
            <a:ext cx="165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rf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d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70080" y="5578560"/>
            <a:ext cx="165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asser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was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6560" y="525456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0560" y="5207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1480" y="54403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31120" y="15462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449440" y="2576520"/>
            <a:ext cx="1120680" cy="7873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26360" y="3946680"/>
            <a:ext cx="652320" cy="99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836880" y="4967280"/>
            <a:ext cx="233640" cy="501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36840" y="2725560"/>
            <a:ext cx="3157560" cy="2492280"/>
          </a:xfrm>
          <a:prstGeom prst="ellipse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00" y="115560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12920" y="192240"/>
            <a:ext cx="8319960" cy="10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1fff"/>
                </a:solidFill>
                <a:latin typeface="Comic Sans MS"/>
                <a:ea typeface="Comic Sans MS"/>
              </a:rPr>
              <a:t>DIE SCHWER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6960" y="19573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65400" y="35640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67520" y="49687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3440" y="4991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31436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88120" y="1751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36960" y="54198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78680" y="3363840"/>
            <a:ext cx="1736640" cy="1254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11760" y="3313080"/>
            <a:ext cx="1965240" cy="1319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00600" y="3564000"/>
            <a:ext cx="19875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lungs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 Lok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47720" y="2268360"/>
            <a:ext cx="1652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130880" y="3514680"/>
            <a:ext cx="165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rf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d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70080" y="5578560"/>
            <a:ext cx="165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beits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asser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was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525456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0560" y="520704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1480" y="544032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1546200"/>
            <a:ext cx="1736640" cy="1254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449440" y="2576520"/>
            <a:ext cx="1120680" cy="7873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26360" y="3946680"/>
            <a:ext cx="652320" cy="99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36880" y="4967280"/>
            <a:ext cx="233640" cy="501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36840" y="2725560"/>
            <a:ext cx="3157560" cy="2492280"/>
          </a:xfrm>
          <a:prstGeom prst="ellipse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00" y="115560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1080" y="393840"/>
            <a:ext cx="7058160" cy="7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  <a:ea typeface="Comic Sans MS"/>
              </a:rPr>
              <a:t>ARBEITSKREIS DORF &amp; LAND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61200" y="81000"/>
            <a:ext cx="1654200" cy="1081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37484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2678040"/>
            <a:ext cx="44100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urnaher Gart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metterlinge im Katzent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gerrasenpf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tblatt “Herzlich willkomm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in Böhmfeld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r grüne Friedh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bauungsplan “Ortskern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cc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tzung zweier alter Gebäu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7920" y="2678040"/>
            <a:ext cx="4043520" cy="28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burts- und Hochzeitsbäu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tsrandgestaltu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stkäst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uobstwie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uchtbiot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99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ünanlage ohne Ch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840" y="1608120"/>
            <a:ext cx="4041720" cy="685800"/>
            <a:chOff x="312840" y="1608120"/>
            <a:chExt cx="4041720" cy="685800"/>
          </a:xfrm>
        </p:grpSpPr>
        <p:sp>
          <p:nvSpPr>
            <p:cNvPr id="127" name=""/>
            <p:cNvSpPr/>
            <p:nvPr/>
          </p:nvSpPr>
          <p:spPr>
            <a:xfrm>
              <a:off x="312840" y="1608120"/>
              <a:ext cx="40417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96800" y="1695600"/>
              <a:ext cx="36162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 LA 21 erledig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707000" y="1608120"/>
            <a:ext cx="4041720" cy="685800"/>
            <a:chOff x="4707000" y="1608120"/>
            <a:chExt cx="4041720" cy="685800"/>
          </a:xfrm>
        </p:grpSpPr>
        <p:sp>
          <p:nvSpPr>
            <p:cNvPr id="130" name=""/>
            <p:cNvSpPr/>
            <p:nvPr/>
          </p:nvSpPr>
          <p:spPr>
            <a:xfrm>
              <a:off x="4707000" y="1608120"/>
              <a:ext cx="4041720" cy="685800"/>
            </a:xfrm>
            <a:prstGeom prst="rect">
              <a:avLst/>
            </a:prstGeom>
            <a:solidFill>
              <a:srgbClr val="7979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5294160" y="1700280"/>
              <a:ext cx="26463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 gepl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533680" y="1506600"/>
            <a:ext cx="4103640" cy="685800"/>
            <a:chOff x="2533680" y="1506600"/>
            <a:chExt cx="4103640" cy="685800"/>
          </a:xfrm>
        </p:grpSpPr>
        <p:sp>
          <p:nvSpPr>
            <p:cNvPr id="133" name=""/>
            <p:cNvSpPr/>
            <p:nvPr/>
          </p:nvSpPr>
          <p:spPr>
            <a:xfrm>
              <a:off x="2533680" y="1506600"/>
              <a:ext cx="4041720" cy="685800"/>
            </a:xfrm>
            <a:prstGeom prst="rect">
              <a:avLst/>
            </a:prstGeom>
            <a:solidFill>
              <a:srgbClr val="ff6f8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2540160" y="1606680"/>
              <a:ext cx="40971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ch 1998 beabsichtig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2343240" y="2293920"/>
            <a:ext cx="4421160" cy="50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meindl. Umweltpre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“Der Katzentaler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staltung Schulhof / -gart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itbild-Semin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euobstanlage mit Erdkell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ökologischer Landbau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Böhmfeld - eine Utopie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ionalvermarktung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öhmfelder Bauernmark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regionale Küche beim Beckerwi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0033"/>
              </a:buClr>
              <a:buSzPct val="120000"/>
              <a:buFont typeface="MT Extra"/>
              <a:buChar char="&gt;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hrpfad “Kulturlandschaft u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Landwirtschaft im Katz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81080" y="393840"/>
            <a:ext cx="7058160" cy="7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KALE AGENDA 21 BÖH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  <a:ea typeface="Comic Sans MS"/>
              </a:rPr>
              <a:t>ARBEITSKREIS DORF &amp; LAND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61200" y="81000"/>
            <a:ext cx="1654200" cy="1081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374840"/>
            <a:ext cx="8604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O</dc:creator>
  <dc:description/>
  <dc:language>en-US</dc:language>
  <cp:lastModifiedBy>AdamO</cp:lastModifiedBy>
  <cp:revision>0</cp:revision>
  <dc:subject/>
  <dc:title>Kein Folientitel</dc:title>
</cp:coreProperties>
</file>